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EBB9-E9B4-4F33-B663-829E1F02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hese questions before lunch, set up a wiki analog for after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hese questions before lunch, set up a wiki analog for after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76D-DBE7-47A6-85CE-672357CC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40F-520F-437C-9B25-5DE659A9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DAC-E693-4256-98DE-4A0C15DE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50C-E07E-4E63-A0A4-9E6CF4E8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089-02E5-451F-A6B9-8D77F689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9A1-E52E-44BE-B98B-D661C0B1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A50-B1CE-4E1F-AA1E-D06428B7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B7C-38D1-4A2B-8772-2B43EE4E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873-F4C2-4B3A-93BE-9987A17F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4C4-A3E8-4386-948F-D50D0C4D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138-0C64-477B-BAE1-E8B70DE1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D61-F225-418B-A2CE-32070F5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A3D8-5854-43E4-A8CD-B11C94F5A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assblogmeister.com/blog.php?blogger_id=102127" TargetMode="External"/><Relationship Id="rId2" Type="http://schemas.openxmlformats.org/officeDocument/2006/relationships/hyperlink" Target="http://classblogmeister.com/blog.php?blogger_id=102127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dO9idmax0o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logs.wsj.com/buzzwatch/2008/06/06/social-media-yes-twitter-users-we-know-amazon-was-down/?mod=googlenews_wsj" TargetMode="External"/><Relationship Id="rId2" Type="http://schemas.openxmlformats.org/officeDocument/2006/relationships/hyperlink" Target="http://edition.cnn.com/2008/TECH/06/05/twitter.maree/" TargetMode="External"/><Relationship Id="rId3" Type="http://schemas.openxmlformats.org/officeDocument/2006/relationships/hyperlink" Target="http://venturebeat.com/2008/06/08/as-the-wwdc-threat-looms-twitter-improves/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dnL00TdmLY" TargetMode="External"/><Relationship Id="rId2" Type="http://schemas.openxmlformats.org/officeDocument/2006/relationships/hyperlink" Target="http://www.youtube.com/watch?v=-dnL00TdmLY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suptechnology.wikispaces.com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N2I1pWXjXI" TargetMode="External"/><Relationship Id="rId2" Type="http://schemas.openxmlformats.org/officeDocument/2006/relationships/hyperlink" Target="http://www.youtube.com/watch?v=NN2I1pWXjXI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Centered Teaching an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and Wikis in an Elementary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232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5800" y="525780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room24.blogspo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91960" y="762120"/>
            <a:ext cx="29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5429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1040" y="228600"/>
            <a:ext cx="48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s living ab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ll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wicht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en Kuropa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adifference.blogspot.c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e’s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rade7math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se and 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blog you are interested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 few posts and comment on sev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using technorati.com or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Tr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S in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Your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(Blogger, Edublogger, Blogmei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or Student-Di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and 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edding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Blogging Sa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Guidelines –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safegu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ng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ng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Blo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jefflewis and room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se and Cre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blog for yourself, either professional or for your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first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URL so we can all follow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nd Ref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logs! (on the Wik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www.mrlewisworldlearners.blog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 and Microb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k Twitter Users, We Know, Amazon I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n Twitters His Way Out of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 the WWDC threat looms, Twitter im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Phone Announced, Twitter will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e Tw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in to your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– What A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ow know about blogging that you didn’t know when you arri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Wikis and what do you want to know about wik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ww.mrlewisworldlearners.blogspot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g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Grade Leadership Conference, May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, How Could You U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l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collaborative effort to bring us into wik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Wik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in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625320"/>
            <a:ext cx="80769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36640" y="1387440"/>
            <a:ext cx="5807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alsuptechnology.wikispaces.co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a Wik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llaborativ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Online Collaborativ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l for Research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ve Intellig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s in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y Schwichtenberg’s Responsibilities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e Mann State Intervie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afegu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your wiki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your wiki i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se and Cre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own wiki using wikispaces, pbwiki or wetp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options for customizing your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ew blog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purpose of blogs and wikis in an elementary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own blog, either professional or student cen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witter account and begin to build a professional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he uses for a wiki and create your own for professional or student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og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in Plain English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contrib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p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Filing Cabinet (www.room24.blogspot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 and Arti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gs, Wikis, Podc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Other Powerful Web To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Classro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Will Richard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win Pres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blogg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696080" cy="3848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754520"/>
            <a:ext cx="69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rincipianteglobal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6:52:04Z</dcterms:created>
  <dc:creator>teacher</dc:creator>
  <dc:description/>
  <dc:language>en-US</dc:language>
  <cp:lastModifiedBy>teacher</cp:lastModifiedBy>
  <dcterms:modified xsi:type="dcterms:W3CDTF">2008-06-10T20:29:43Z</dcterms:modified>
  <cp:revision>11</cp:revision>
  <dc:subject/>
  <dc:title>Student Centered Teaching and Learning</dc:title>
</cp:coreProperties>
</file>